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370C-DBE7-4701-A671-0500F4435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DC0B-AE01-442C-8027-7F397A239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D660-FF4F-4BE3-B420-C90780648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D7B0-D7E2-4C9B-8487-A6AFD4E7B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EBFC-C000-4ED8-9A28-0C825FC3D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FF16-F3E5-4343-91EA-1DC7A912D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B4CB-3063-442B-BC48-082652DE3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1CED-AD4A-4D2C-97CF-15BE2004E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E8D1-2E46-4976-80F9-0CFAD1AC3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CCDD-913A-448E-B975-3A84ED085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8319-0158-4317-AF71-137371B7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8402-74B4-4335-8F81-721ECAE6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EE293-D635-4555-80F9-34FE9691C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geoghagan_geometry_assignments.htm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6 Angle Pair Relationsh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5248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&lt;A &amp; &lt;B are supplementary. m&lt;A is 5 times m&lt;B.  Find m&lt;A &amp; m&lt;B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839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&lt;A + m&lt;B = 18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&lt;A = 5(m&lt;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bstitu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(m&lt;B) + m&lt;B = 18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(m&lt;B)=18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&lt;B=3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&lt;A=15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19720" y="2585880"/>
            <a:ext cx="1676160" cy="69084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3581280" y="2514240"/>
            <a:ext cx="99072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4876920"/>
            <a:ext cx="2666880" cy="144756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8" dur="indefinite" restart="never" nodeType="tmRoot">
          <p:childTnLst>
            <p:seq>
              <p:cTn id="1799" dur="indefinite" nodeType="mainSeq">
                <p:childTnLst>
                  <p:par>
                    <p:cTn id="1800" fill="hold">
                      <p:stCondLst>
                        <p:cond delay="0"/>
                      </p:stCondLst>
                      <p:childTnLst>
                        <p:par>
                          <p:cTn id="1801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8" fill="hold">
                      <p:stCondLst>
                        <p:cond delay="indefinite"/>
                      </p:stCondLst>
                      <p:childTnLst>
                        <p:par>
                          <p:cTn id="1819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6" fill="hold">
                      <p:stCondLst>
                        <p:cond delay="indefinite"/>
                      </p:stCondLst>
                      <p:childTnLst>
                        <p:par>
                          <p:cTn id="1837" fill="hold">
                            <p:stCondLst>
                              <p:cond delay="0"/>
                            </p:stCondLst>
                            <p:childTnLst>
                              <p:par>
                                <p:cTn id="18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4" fill="hold">
                      <p:stCondLst>
                        <p:cond delay="indefinite"/>
                      </p:stCondLst>
                      <p:childTnLst>
                        <p:par>
                          <p:cTn id="1855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3" fill="hold">
                      <p:stCondLst>
                        <p:cond delay="indefinite"/>
                      </p:stCondLst>
                      <p:childTnLst>
                        <p:par>
                          <p:cTn id="1924" fill="hold">
                            <p:stCondLst>
                              <p:cond delay="0"/>
                            </p:stCondLst>
                            <p:childTnLst>
                              <p:par>
                                <p:cTn id="19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1" fill="hold">
                      <p:stCondLst>
                        <p:cond delay="indefinite"/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4" dur="indefinite" restart="never" nodeType="tmRoot">
          <p:childTnLst>
            <p:seq>
              <p:cTn id="1995" dur="indefinite" nodeType="mainSeq">
                <p:childTnLst>
                  <p:par>
                    <p:cTn id="1996" fill="hold">
                      <p:stCondLst>
                        <p:cond delay="0"/>
                      </p:stCondLst>
                      <p:childTnLst>
                        <p:par>
                          <p:cTn id="1997" fill="hold">
                            <p:stCondLst>
                              <p:cond delay="0"/>
                            </p:stCondLst>
                            <p:childTnLst>
                              <p:par>
                                <p:cTn id="199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angles are adjacen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2133720"/>
            <a:ext cx="2210040" cy="3429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068480" y="2128320"/>
            <a:ext cx="1143000" cy="3125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19320" y="34290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   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47920" y="3124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38862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9144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1&amp;&lt;2, &lt;2&amp;&lt;3, &lt;3&amp;&lt;4, &lt;4&amp;&lt;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81280" y="2971800"/>
            <a:ext cx="495324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ertical Ang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2 angles that share a common vertex &amp; whose sides form 2 pairs of opposite ra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1&amp;&lt;3,  &lt;2&amp;&lt;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95480" y="16002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n what do we call &lt;1&amp;&lt;3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inear Pai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(of angl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adjacent angles whose non-common sides are opposite r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27360" y="4186080"/>
            <a:ext cx="5795640" cy="1216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733560" y="2742840"/>
            <a:ext cx="1066680" cy="2057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625800">
            <a:off x="4187520" y="44193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       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tical ang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1 &amp; &lt;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acent ang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1&amp;&lt;2, &lt;2&amp;&lt;3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3&amp;&lt;4, &lt;4&amp;&lt;5, &lt;5&amp;&lt;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ar pai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5&amp;&lt;4, &lt;1&amp;&lt;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acent angles not a linear pai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1&amp;&lt;2, &lt;2&amp;&lt;3, &lt;3&amp;&lt;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0560" y="3427560"/>
            <a:ext cx="39574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553080" y="1752480"/>
            <a:ext cx="0" cy="2743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553080" y="1752120"/>
            <a:ext cx="914400" cy="167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72200" y="3048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    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2590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3505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  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4000"/>
                            </p:stCondLst>
                            <p:childTnLst>
                              <p:par>
                                <p:cTn id="37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6000"/>
                            </p:stCondLst>
                            <p:childTnLst>
                              <p:par>
                                <p:cTn id="42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2000"/>
                            </p:stCondLst>
                            <p:childTnLst>
                              <p:par>
                                <p:cTn id="49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mportant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tical Angles are congru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m of the measures of the angles in a linear pair is 18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xampl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m&lt;5=13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&lt;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&lt;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&lt;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52880" y="1143000"/>
            <a:ext cx="266724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5562720" y="609120"/>
            <a:ext cx="1066680" cy="5257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562720" y="2895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      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20574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19920" y="3809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2133720"/>
            <a:ext cx="1447920" cy="19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13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5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5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1981080"/>
            <a:ext cx="1218960" cy="221004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0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000"/>
                            </p:stCondLst>
                            <p:childTnLst>
                              <p:par>
                                <p:cTn id="65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4000"/>
                            </p:stCondLst>
                            <p:childTnLst>
                              <p:par>
                                <p:cTn id="68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2000"/>
                            </p:stCondLst>
                            <p:childTnLst>
                              <p:par>
                                <p:cTn id="75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4000"/>
                            </p:stCondLst>
                            <p:childTnLst>
                              <p:par>
                                <p:cTn id="77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6000"/>
                            </p:stCondLst>
                            <p:childTnLst>
                              <p:par>
                                <p:cTn id="7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2000"/>
                            </p:stCondLst>
                            <p:childTnLst>
                              <p:par>
                                <p:cTn id="86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&lt;A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&lt;AB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&lt;D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&lt;E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48120" y="1066680"/>
            <a:ext cx="5638680" cy="838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3505320" y="304560"/>
            <a:ext cx="4800600" cy="2361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454200">
            <a:off x="4723920" y="1125360"/>
            <a:ext cx="373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x+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y+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564000">
            <a:off x="4335120" y="159984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+1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4y-1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324480" y="2590920"/>
            <a:ext cx="24386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=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=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&lt;ABE=12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&lt;ABD=5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&lt;DBC=12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&lt;EBC=5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391520" y="2286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15000" y="1143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86200" y="24382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001000" y="18288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29000" y="762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562720" y="2133720"/>
            <a:ext cx="3581280" cy="472428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0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2000"/>
                            </p:stCondLst>
                            <p:childTnLst>
                              <p:par>
                                <p:cTn id="89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4000"/>
                            </p:stCondLst>
                            <p:childTnLst>
                              <p:par>
                                <p:cTn id="9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6000"/>
                            </p:stCondLst>
                            <p:childTnLst>
                              <p:par>
                                <p:cTn id="10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295280" y="4952880"/>
            <a:ext cx="304920" cy="30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omplementary Ang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angles whose sum is 9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295280" y="2590920"/>
            <a:ext cx="0" cy="2666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525780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295280" y="2895480"/>
            <a:ext cx="1295640" cy="2362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71600" y="41148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76520" y="46483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3962520" y="2666520"/>
            <a:ext cx="914400" cy="2667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876920" y="2666520"/>
            <a:ext cx="457200" cy="2667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86400" y="2819520"/>
            <a:ext cx="838080" cy="2743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5486400" y="4266720"/>
            <a:ext cx="266688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38098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5334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15000" y="48006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5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410080" y="5562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5486400"/>
            <a:ext cx="4876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1 &amp; &lt;2 are complement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A &amp; &lt;B are complement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7" dur="indefinite" restart="never" nodeType="tmRoot">
          <p:childTnLst>
            <p:seq>
              <p:cTn id="1268" dur="indefinite" nodeType="mainSeq">
                <p:childTnLst>
                  <p:par>
                    <p:cTn id="1269" fill="hold">
                      <p:stCondLst>
                        <p:cond delay="0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9" fill="hold">
                            <p:stCondLst>
                              <p:cond delay="6000"/>
                            </p:stCondLst>
                            <p:childTnLst>
                              <p:par>
                                <p:cTn id="14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0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2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8" fill="hold">
                            <p:stCondLst>
                              <p:cond delay="8000"/>
                            </p:stCondLst>
                            <p:childTnLst>
                              <p:par>
                                <p:cTn id="153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upplementary Ang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angles whose sum is 18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685800" y="2742840"/>
            <a:ext cx="2666880" cy="28954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1599840" y="2438280"/>
            <a:ext cx="30492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8782400">
            <a:off x="1258200" y="3542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 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666880" y="5181480"/>
            <a:ext cx="182880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495680" y="3505320"/>
            <a:ext cx="381240" cy="1676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257800" y="3580920"/>
            <a:ext cx="38088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257800" y="5105160"/>
            <a:ext cx="1447920" cy="75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733920" y="47242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67080" y="5181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     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2743200"/>
            <a:ext cx="27432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1 &amp; &lt;2 are supplementa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X &amp; &lt;Y are supplement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3" dur="indefinite" restart="never" nodeType="tmRoot">
          <p:childTnLst>
            <p:seq>
              <p:cTn id="1574" dur="indefinite" nodeType="mainSeq">
                <p:childTnLst>
                  <p:par>
                    <p:cTn id="1575" fill="hold">
                      <p:stCondLst>
                        <p:cond delay="0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2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2" fill="hold">
                      <p:stCondLst>
                        <p:cond delay="indefinite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9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3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4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3" fill="hold">
                            <p:stCondLst>
                              <p:cond delay="8000"/>
                            </p:stCondLst>
                            <p:childTnLst>
                              <p:par>
                                <p:cTn id="176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0" fill="hold">
                      <p:stCondLst>
                        <p:cond delay="indefinite"/>
                      </p:stCondLst>
                      <p:childTnLst>
                        <p:par>
                          <p:cTn id="1781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7T16:45:56Z</dcterms:created>
  <dc:creator>julie.geoghagan</dc:creator>
  <dc:description/>
  <dc:language>en-US</dc:language>
  <cp:lastModifiedBy>julie.geoghagan</cp:lastModifiedBy>
  <dcterms:modified xsi:type="dcterms:W3CDTF">2005-07-28T17:08:07Z</dcterms:modified>
  <cp:revision>19</cp:revision>
  <dc:subject/>
  <dc:title>1.6 Angle Pair Relationships</dc:title>
</cp:coreProperties>
</file>